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AB1D-AFEF-4A50-A6DC-17C6B889758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A9CE-2DF7-4CF9-AD6C-3A3088BF014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D3BE-B81F-4514-B805-869702E1D89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4925-757C-4487-BD9F-0E36D3C47B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2C03-3B37-4609-9E85-1AE2050433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8BE6-3E2F-49DA-A238-C5AF7545AD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F13D-61AC-41EB-A56F-2EDC084281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6EAB-BC09-47D6-A61D-42B11F984E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50F6-A370-4E76-ABA6-2506D6A9EF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AD33-8E36-4E4C-892A-85A81D645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969A-FE9E-4BD8-B7BB-909579A711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91CB-E552-4641-A0D4-886AC75068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3D4E-1C04-438C-8A46-4AE0AB9264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8D9F-60AB-4720-9B95-C5C7B9C2E5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F091-E14C-412E-BBFB-F205D314A9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A0D2-6282-41DA-B90B-8C5CDC2F723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E5E6-E8D6-4632-965A-3BD5B60C6CE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0A9C-05BD-4250-AB8F-BDB20AE522A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30C0-8D18-44F2-A450-7627C9F82BD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6DD-EC07-4C1A-81BA-2A2D0185869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B2E1-A53D-419F-8EC2-B9B4BA44532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CB9A-3519-496D-9742-78A233B25A7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4F77-7FD2-4F39-AB80-AE01E33E7E2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8781-1E4D-44A9-9D80-6C9582E7642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A1C8-0E62-4C16-A323-BC5C46ADA0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4AC9-DC27-4200-A042-983FAB473BD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63"/>
          <p:cNvSpPr/>
          <p:nvPr/>
        </p:nvSpPr>
        <p:spPr>
          <a:xfrm>
            <a:off x="647640" y="61977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A849-93CA-4A82-A62A-77E83F618D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8AA4-2A7D-4ACA-B04E-6F0064CFAAE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D957-56D8-4A81-B364-968D80E7733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0498-0F5B-4D29-A123-2802DCCB5DF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F3C3-6AD6-4D56-91C2-2682D874D07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231B-A754-43CD-9EFE-9132891C154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4EE3-B1FC-4E91-821D-718DBB116D7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9105-8266-4DE4-A279-9744CD7E877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0B68-9FBF-4507-ABA3-EE01D2AD2BC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061C-3BF5-4C2D-919D-0CE3DEFC6B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1BB8-424B-4DC3-A228-9F6AEA0FF3C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B02B-DE46-4BD2-9B4E-4BB6F8EAD87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D380-D152-4131-96B1-16838920280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#SekretaerinnenVonStuder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SusanneWint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F5B1-48B7-4E74-A9D4-AC9A4B988BE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0E40-5728-4645-A596-D647AE73354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CEF9-7C7D-44CF-8446-EEA8029BD02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about="#AngehoerigeAG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901F-E715-4244-B085-76B3E973A27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4E6-1A90-4E2F-B896-448F1ABCFC8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4308-75FA-4DEA-9A87-F3680DAA2E9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9CAB-0164-4331-9FD1-9D25974F30B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8EF6-D46C-43F4-9667-05C7A5922B6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E839-ACB6-4568-9608-F00A0E63F92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08B1-0DF8-458F-92C5-C53B7A7CA4D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D6F7-981B-4491-B1CB-D2BA3C03DEE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760D-1168-483C-837B-3975F24009B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1475-CF87-4D5E-87D8-74C3C47A2E1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7C3A-C8D8-4EA9-AFEF-10B7003EA83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#RudiStuder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4C28-0FEC-4BD3-941D-001CAA4D053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E61A-2783-40AE-BE8B-8B4CFF3563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1424-7647-4625-85E9-986D4251FEC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E942-DA46-41E2-A62B-4C7BEFA7B2E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0639-9B5F-4D0E-BFF7-69351A41519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4143-AEE5-4F45-8D43-30B0113AA1E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BBF5-F675-44D0-8DAF-0C3383C6E2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81D9-500E-4E39-8AA5-C089BF1042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10B7-C86E-4B22-9A37-28E48957692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7B1A-A279-4847-926F-4666ABCB74F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3A6E-2EBC-4246-BE70-0E728DECFE8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481D-2B9B-4C4A-93D1-C067E1E60A2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73BB-C611-41EC-97AA-067EE576C5D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AF78-B0DE-4A8C-8913-26AD22DAFC9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EE7-A3E9-4073-9161-52D1A9B253C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C799-2D80-4C63-85CB-94443F8F9A1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2935-C553-4CFD-8A52-EA17D0D4979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D9A-ED5C-453C-857F-F651DB1E7D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5A66-F5A2-45A9-85EF-A7D7A01A956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891E-8F07-451B-B333-C86DC6C435F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7B02-B27F-4E00-B9D9-4717F092174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D156-7BF1-4CF3-9C02-F69268B758E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E8B-BED7-444F-AF76-B20FC8443A4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4EC-17D3-4D06-95C0-CF60E5AD9DE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BFDE-AE9F-47E4-A744-5CF9CF7D288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82E1-4DA5-49CA-B6E9-76F85807E42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90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1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4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6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7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400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2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3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5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6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8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6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7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8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9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1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2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3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4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3"/>
          <p:cNvSpPr/>
          <p:nvPr/>
        </p:nvSpPr>
        <p:spPr>
          <a:xfrm>
            <a:off x="8048160" y="3338640"/>
            <a:ext cx="150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7958520" y="4076640"/>
            <a:ext cx="2347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6718680" y="2247840"/>
            <a:ext cx="224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5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6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9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1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2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5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8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1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3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4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6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7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9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60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2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4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5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7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1972080" y="7340760"/>
            <a:ext cx="3201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AC3E-4EE4-44F6-B2BA-F1051809BDC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2:35:37Z</dcterms:created>
  <dc:creator/>
  <dc:description/>
  <cp:keywords/>
  <dc:language>en-US</dc:language>
  <cp:lastModifiedBy>Sebastian Rudolph</cp:lastModifiedBy>
  <dcterms:modified xsi:type="dcterms:W3CDTF">2008-12-02T22:47:49Z</dcterms:modified>
  <cp:revision>2</cp:revision>
  <dc:subject/>
  <dc:title>Grundlagen Semantic Web</dc:title>
</cp:coreProperties>
</file>